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040" y="744120"/>
            <a:ext cx="2576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E38E-E7A1-4397-8CF4-1B123CC4D1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7652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931D-00F4-48E6-ABB2-539380F3BCE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2E9-5D42-430B-BB35-CD9C5314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A45-5382-423C-8554-D9690B19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308-ED8F-4ABD-91D4-28B246A1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7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1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7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754-CA79-4920-81D7-7D77C537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326-EB84-475B-A374-06944FC8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9A6-56B4-48F9-A9AB-CE2E4F2A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3F6-AFD9-4AB3-952A-9E74E47B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19D-D7AB-4DE8-95A8-FD68393A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1280" y="395280"/>
            <a:ext cx="61754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4F8-6C66-43ED-89CA-F28C56F3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809-6A9C-4611-9106-9FA1306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5FF-71B6-4221-A962-549AF3C8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F52-ADA4-4F1A-9AB0-930C4EE1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25D80E-68C4-4334-A70F-95D7D66A4B7F}" type="slidenum">
              <a:rPr b="0" lang="it-IT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41720" y="6537240"/>
            <a:ext cx="3403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516480" y="5964120"/>
            <a:ext cx="3341520" cy="389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lezione di 28 componenti del CNSU iscritti ad un corso di laurea,  di laurea magistrale, di laurea magistrale a ciclo unico o a corsi di laurea di precedenti ordinam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iversità degli Studi di…….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de di……..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ggio N°…….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irma del Presiden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piè di pagina 1"/>
          <p:cNvSpPr/>
          <p:nvPr/>
        </p:nvSpPr>
        <p:spPr>
          <a:xfrm>
            <a:off x="189000" y="8985240"/>
            <a:ext cx="2171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2"/>
          <p:cNvSpPr/>
          <p:nvPr/>
        </p:nvSpPr>
        <p:spPr>
          <a:xfrm>
            <a:off x="4231440" y="415800"/>
            <a:ext cx="163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es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e 1"/>
          <p:cNvSpPr/>
          <p:nvPr/>
        </p:nvSpPr>
        <p:spPr>
          <a:xfrm>
            <a:off x="293760" y="4761000"/>
            <a:ext cx="576360" cy="576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egnaposto piè di pagina 1"/>
          <p:cNvSpPr/>
          <p:nvPr/>
        </p:nvSpPr>
        <p:spPr>
          <a:xfrm>
            <a:off x="485640" y="8842320"/>
            <a:ext cx="217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2"/>
          <p:cNvSpPr/>
          <p:nvPr/>
        </p:nvSpPr>
        <p:spPr>
          <a:xfrm>
            <a:off x="497160" y="3903840"/>
            <a:ext cx="225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mbolo o cas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vuota in caso di assenza di simbol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3"/>
          <p:cNvSpPr/>
          <p:nvPr/>
        </p:nvSpPr>
        <p:spPr>
          <a:xfrm>
            <a:off x="1052640" y="468936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4"/>
          <p:cNvSpPr/>
          <p:nvPr/>
        </p:nvSpPr>
        <p:spPr>
          <a:xfrm rot="10800000">
            <a:off x="3847680" y="468936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"/>
          <p:cNvSpPr/>
          <p:nvPr/>
        </p:nvSpPr>
        <p:spPr>
          <a:xfrm>
            <a:off x="468360" y="8553600"/>
            <a:ext cx="58323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IMO LEMBO DA PIEG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2"/>
          <p:cNvSpPr/>
          <p:nvPr/>
        </p:nvSpPr>
        <p:spPr>
          <a:xfrm>
            <a:off x="4662360" y="1208160"/>
            <a:ext cx="157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in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sellaDiTesto 3"/>
          <p:cNvSpPr/>
          <p:nvPr/>
        </p:nvSpPr>
        <p:spPr>
          <a:xfrm>
            <a:off x="1052640" y="443700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NOMINAZIONE DELLA L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3813120" y="443700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OTO DI PREFERENZA PER UN CANDID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1"/>
          <p:cNvSpPr/>
          <p:nvPr/>
        </p:nvSpPr>
        <p:spPr>
          <a:xfrm>
            <a:off x="297000" y="570060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3"/>
          <p:cNvSpPr/>
          <p:nvPr/>
        </p:nvSpPr>
        <p:spPr>
          <a:xfrm>
            <a:off x="1052640" y="560232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"/>
          <p:cNvSpPr/>
          <p:nvPr/>
        </p:nvSpPr>
        <p:spPr>
          <a:xfrm rot="10800000">
            <a:off x="3847680" y="560232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e 1"/>
          <p:cNvSpPr/>
          <p:nvPr/>
        </p:nvSpPr>
        <p:spPr>
          <a:xfrm>
            <a:off x="297000" y="654516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3"/>
          <p:cNvSpPr/>
          <p:nvPr/>
        </p:nvSpPr>
        <p:spPr>
          <a:xfrm>
            <a:off x="1052640" y="6473880"/>
            <a:ext cx="2663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4"/>
          <p:cNvSpPr/>
          <p:nvPr/>
        </p:nvSpPr>
        <p:spPr>
          <a:xfrm rot="10800000">
            <a:off x="3847680" y="6473520"/>
            <a:ext cx="2825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3:47:32Z</dcterms:created>
  <dc:creator>Fabrizio</dc:creator>
  <dc:description/>
  <dc:language>en-US</dc:language>
  <cp:lastModifiedBy>HP</cp:lastModifiedBy>
  <cp:lastPrinted>2019-04-08T14:26:55Z</cp:lastPrinted>
  <dcterms:modified xsi:type="dcterms:W3CDTF">2022-02-15T08:24:53Z</dcterms:modified>
  <cp:revision>82</cp:revision>
  <dc:subject/>
  <dc:title>Diapositiva 1</dc:title>
</cp:coreProperties>
</file>